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2199-3780-4296-AA77-4ABAE605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6BDE-25A6-48FB-A668-096541C9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4C07-46E7-457E-B7D7-550F4F04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A731-1E5B-4E89-819F-9D4F904B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9421-5D2F-4FE0-8413-F7FD0A35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6DB9-A351-4884-88FC-1F099E02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6C7D-694A-471D-BFDA-97C97C30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21B8-D4B8-4385-A187-2FBC527D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9F2C-67F3-4DC9-8BE3-FD9DFC3A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2689-0707-4B69-9B97-2CEB58F0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52E5-04FC-4FAF-A886-9AE377DE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6A73-6B90-47F6-B701-F6C1346B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4D93-E76B-42FA-A73D-34CAE6EF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A36B-82DA-4E56-B56B-098DF73F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65A6-1D9D-40E3-8591-536270B8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16FE-38FB-4C77-AC35-898E5E61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D7C3-EE28-4D4A-B317-AA14EF44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41C7-FD7D-41D6-82BD-3CF9A468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1200-39EA-4FF4-949A-67D519CC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4EC8-7C61-4277-9115-F9A1B87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7E7D-5D47-44C6-BE80-0F42D9A1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EA6B-A9CB-4203-8E1F-E966E119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9D18-4AF0-4BD5-A106-45EE4E30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F3B6-A866-43CF-88D0-317650A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E6FD-FA61-40CC-971B-57FD90974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9640-5F5C-434C-A7F7-7AA8001B8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ark Reac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alvin Cy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ernative Pathway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ts that fix carbon exclusively through the Calvin Cycle-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C3 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aramond"/>
              </a:rPr>
              <a:t>Because of the 3-C  compound PGA, that is initially form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Rice, wheat, oats, and soybe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543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ernative Pathwa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ts in </a:t>
            </a:r>
            <a:r>
              <a:rPr b="0" lang="en-US" sz="3200" spc="-1" strike="noStrike">
                <a:solidFill>
                  <a:srgbClr val="ff0066"/>
                </a:solidFill>
                <a:latin typeface="Garamond"/>
              </a:rPr>
              <a:t>hot, dr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limates use alternative path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 lose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the air-through small pores called stomata (underside of lea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partially closed to prevent water lo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mata are the major passageways through which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CO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ters and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when stomata are closed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evels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decrea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evels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increa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iration-Evaporation of water from lea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te of transpiration related to the degree of stomata opening and evaporation demand of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419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4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x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to 4-C compou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ially close stomata during hottest part of the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zymes fix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to 4-C compounds and transport them to cells wher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released and enters calvin cycle ( lose ½ as much H2O as C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rn, sugar cane, crabgra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0" y="1386000"/>
            <a:ext cx="4572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M Pathwa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n stomata at night; close during the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ke i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t night and fix into compou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ease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uring the day and enter the Calvin cyc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 cacti, pineapp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87692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6" descr="leafstru.gif"/>
          <p:cNvPicPr/>
          <p:nvPr/>
        </p:nvPicPr>
        <p:blipFill>
          <a:blip r:embed="rId1"/>
          <a:stretch/>
        </p:blipFill>
        <p:spPr>
          <a:xfrm>
            <a:off x="1087560" y="609480"/>
            <a:ext cx="70102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te of Photosyn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 Intens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 rate of photosynthesis, then levels off ( max. rate of photosynthes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 intensity, excites more electrons in cholorphy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@ same intensity, all available electrons are exci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ount C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ount of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s rate of photosynthesis to a point, then levels o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3" descr="graph2.gif"/>
          <p:cNvPicPr/>
          <p:nvPr/>
        </p:nvPicPr>
        <p:blipFill>
          <a:blip r:embed="rId1"/>
          <a:stretch/>
        </p:blipFill>
        <p:spPr>
          <a:xfrm>
            <a:off x="1371600" y="3505320"/>
            <a:ext cx="6477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mperatur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temperature accelerates the chemical rxns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aks @ certain temp. because the enzymes becomes ineffective and unst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mata closes-limiting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loss and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try into the lea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3" descr="Focus200307.jpg"/>
          <p:cNvPicPr/>
          <p:nvPr/>
        </p:nvPicPr>
        <p:blipFill>
          <a:blip r:embed="rId1"/>
          <a:stretch/>
        </p:blipFill>
        <p:spPr>
          <a:xfrm>
            <a:off x="4572000" y="4572000"/>
            <a:ext cx="4343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entration of 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ll decrease the rate of photosynthesis and increase the rate of photorespi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bisco will bind with oxy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ll send PGA into respiration, instead of finishing photosynthe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reasing amount of organic compound produc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6C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+6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        C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1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+6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ark reactions use the energy stored in ATP and NADPH the light reac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bon atoms from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bonded, or fixed, into organic compounds = carbon fix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OCCURS IN THE STRO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ight Arrow 5"/>
          <p:cNvSpPr/>
          <p:nvPr/>
        </p:nvSpPr>
        <p:spPr>
          <a:xfrm>
            <a:off x="3962520" y="609480"/>
            <a:ext cx="82548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Frame 8"/>
          <p:cNvSpPr/>
          <p:nvPr/>
        </p:nvSpPr>
        <p:spPr>
          <a:xfrm>
            <a:off x="457200" y="380880"/>
            <a:ext cx="1676520" cy="114300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Frame 9"/>
          <p:cNvSpPr/>
          <p:nvPr/>
        </p:nvSpPr>
        <p:spPr>
          <a:xfrm>
            <a:off x="4800600" y="457200"/>
            <a:ext cx="2438280" cy="91440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95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P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enzyme (rubisco), combines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ith a 5-carbon sugar RuB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duct, 6-C sugar, immediately splits into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, -3C molecules (PG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GA– Phosphoglyceric Ac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9" descr="campbell_10"/>
          <p:cNvPicPr/>
          <p:nvPr/>
        </p:nvPicPr>
        <p:blipFill>
          <a:blip r:embed="rId1"/>
          <a:stretch/>
        </p:blipFill>
        <p:spPr>
          <a:xfrm>
            <a:off x="4648320" y="1676520"/>
            <a:ext cx="4029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p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GA is converted to another 3- Carbon molecule PGAL in a 2 part proces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PGA receives a P group from AT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ing compound receives a proton from NADPH and releases the P, producing PG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DP &amp; NADP+ return to light rxn., to make ATP and NADPH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9" descr="campbell_10"/>
          <p:cNvPicPr/>
          <p:nvPr/>
        </p:nvPicPr>
        <p:blipFill>
          <a:blip r:embed="rId1"/>
          <a:stretch/>
        </p:blipFill>
        <p:spPr>
          <a:xfrm>
            <a:off x="4724280" y="1600200"/>
            <a:ext cx="402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p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of the PGAL is converted back to RuB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quires a P from another AT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PGAL leave and used by plants create organic compou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9" descr="campbell_10"/>
          <p:cNvPicPr/>
          <p:nvPr/>
        </p:nvPicPr>
        <p:blipFill>
          <a:blip r:embed="rId1"/>
          <a:stretch/>
        </p:blipFill>
        <p:spPr>
          <a:xfrm>
            <a:off x="4572000" y="1371600"/>
            <a:ext cx="4334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Sheet for Photosyn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much ATP &amp; NADH are required to make 1 molecule of PGA from carbon dioxid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turn fixes on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GAL is a 3-C molecule (takes 3 turns to make each molecu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turn of the cyc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ATP ( 2 in step 2 &amp; 1 in step 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NADPH  (step 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50% made to fuel cell Respi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of the PGAL is used to mak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amino acids, lipi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arbohydrates lik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glucose and fruct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glycogen,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tarch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ellul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95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0:15:31Z</dcterms:created>
  <dc:creator>NPSD</dc:creator>
  <dc:description/>
  <dc:language>en-US</dc:language>
  <cp:lastModifiedBy>NPSD</cp:lastModifiedBy>
  <dcterms:modified xsi:type="dcterms:W3CDTF">2008-12-08T15:05:29Z</dcterms:modified>
  <cp:revision>12</cp:revision>
  <dc:subject/>
  <dc:title>Dark Reaction</dc:title>
</cp:coreProperties>
</file>